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C7D-3FDF-431B-A16D-7249BEDA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7D6-B8D7-4DBD-9F67-581A4699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C2D-DA20-4AC3-8BD0-9BCE5F2A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9C7-155B-4165-B17A-33B7CE58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770-C05C-4D62-B3FF-68229C2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1AC-8ABA-4981-A9F9-94CEF58C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92A-2D79-4414-9EF3-C8FB5B7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C2A-064E-4AAF-A7ED-BC8B477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05E-C6B6-4087-B8B0-F73B7BCF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351-EA6B-4106-AC78-85DCBD8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703-E6F5-48A6-891B-B4694AB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CBA-77A2-4712-91EA-52BA02DF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6D6-668D-4E97-9051-5015D3677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oal 3.01/3.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Interpretations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rix G shows the number of students at a gym in the year 2000. Matrix M shows the number of students at the same gym in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0282" t="1829" r="0" b="0"/>
          <a:stretch/>
        </p:blipFill>
        <p:spPr>
          <a:xfrm>
            <a:off x="228600" y="2286000"/>
            <a:ext cx="8686800" cy="18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41911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matrix that represents the change from 2000 to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atrices Basics: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mensions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ws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following mat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09480" y="4114800"/>
                <a:ext cx="1524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59120" y="3797280"/>
                <a:ext cx="1825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629400" y="3886200"/>
                <a:ext cx="1314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70560" y="4038480"/>
                <a:ext cx="563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f matrix M equals matrix N, find the valu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09680" y="1981080"/>
                <a:ext cx="44960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181480" y="3505320"/>
                <a:ext cx="7225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520" y="3745080"/>
                <a:ext cx="144756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e the following matrices to perform the necessary oper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24280" y="1666800"/>
                <a:ext cx="1676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6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514600" y="1676520"/>
                <a:ext cx="167652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  <m:e>
                                    <m:r>
                                      <m:t xml:space="preserve">8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</m:e>
                                  <m:e>
                                    <m:r>
                                      <m:t xml:space="preserve">9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" y="1676520"/>
                <a:ext cx="167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184880" y="1676520"/>
                <a:ext cx="10224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91120" y="3505320"/>
                <a:ext cx="1552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04920" y="3429000"/>
                <a:ext cx="21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yearly sales of belts, hats, pants and shirts at a local store over three yea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item shows a decrease in yearly sales from Year 1 to Year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2133720"/>
          <a:ext cx="7543800" cy="27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5438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648320"/>
            <a:ext cx="8382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are the dimensions of the matrix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ich day were the least number of pastries sol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2057400"/>
          <a:ext cx="5639040" cy="207000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matrix below shows the number of pastries sold at HotCakes Café after one week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8098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hat percent of Friday’s sales were brown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1523880"/>
          <a:ext cx="5639040" cy="2070000"/>
        </p:xfrm>
        <a:graphic>
          <a:graphicData uri="http://schemas.openxmlformats.org/drawingml/2006/table">
            <a:tbl>
              <a:tblPr/>
              <a:tblGrid>
                <a:gridCol w="194328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HotCakes Café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35268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t Hastie’s Pastries, they sold half as many pastries Friday, triple as many pastries Saturday, and a fourth of each pastry on Sunday.  Create a matrix that represents Hastie’s Pastr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990720"/>
          <a:ext cx="5638680" cy="2070000"/>
        </p:xfrm>
        <a:graphic>
          <a:graphicData uri="http://schemas.openxmlformats.org/drawingml/2006/table">
            <a:tbl>
              <a:tblPr/>
              <a:tblGrid>
                <a:gridCol w="1942920"/>
                <a:gridCol w="876240"/>
                <a:gridCol w="1409760"/>
                <a:gridCol w="14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ca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3:03:18Z</dcterms:created>
  <dc:creator>Sharon Fieldman</dc:creator>
  <dc:description/>
  <dc:language>en-US</dc:language>
  <cp:lastModifiedBy>Sharon Fieldman</cp:lastModifiedBy>
  <dcterms:modified xsi:type="dcterms:W3CDTF">2010-12-10T19:12:10Z</dcterms:modified>
  <cp:revision>25</cp:revision>
  <dc:subject/>
  <dc:title>Goal 3.01/3.02 Matrices (Yay!)</dc:title>
</cp:coreProperties>
</file>